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652093"/>
        <c:axId val="35358136"/>
      </c:barChart>
      <c:catAx>
        <c:axId val="676520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58136"/>
        <c:crosses val="autoZero"/>
        <c:auto val="1"/>
        <c:lblAlgn val="ctr"/>
        <c:lblOffset val="100"/>
        <c:noMultiLvlLbl val="0"/>
      </c:catAx>
      <c:valAx>
        <c:axId val="353581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520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1B80-3BF8-41E5-9C4F-A32179E67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BC7-B2A2-45ED-8E4E-96A1FBF7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6C5-A2E2-4C9E-B649-7ED539D3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385-A6BD-4BDB-A32D-D79360A9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41C2-141E-446F-87A5-61785718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4B0-DDFF-47D0-82C0-84423FE7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172-607A-43BE-AAC9-CCB4E48F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A222-FE43-495D-912E-77FF6322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303A-BC1A-44B5-ACBD-F4FEA93F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53B4-A783-4664-AAC3-0C9A45C3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FA6-A88B-47EF-8A90-930F533D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8AF3-7586-49A5-91AE-8CD97702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F1ADD-8BF4-451F-960E-05EB8D831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