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41382"/>
        <c:axId val="99406286"/>
      </c:barChart>
      <c:catAx>
        <c:axId val="87341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06286"/>
        <c:crosses val="autoZero"/>
        <c:auto val="1"/>
        <c:lblAlgn val="ctr"/>
        <c:lblOffset val="100"/>
        <c:noMultiLvlLbl val="0"/>
      </c:catAx>
      <c:valAx>
        <c:axId val="99406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41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4DC-2B4D-4766-8756-96672B49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DB5-2310-4E7D-A421-E78FB199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015-E564-46B3-BCE6-9E92DA7C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448-1394-485F-895D-DE49400B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579-EDFE-4588-AFC0-E33D24B8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78C-4C38-4877-869A-30F49830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B4F-46B4-4FE1-B502-3AC50D45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150-9269-4068-936E-875CEEB0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A5B-E6BC-41DD-BCBD-046AD7AA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687-1676-4B7E-B906-BE1133D8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804-DA38-44CE-95B9-05A05701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E7D-6743-4B7D-8511-369D4CD2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D498E-CBB0-4D4B-B644-C55747C178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