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07309"/>
        <c:axId val="176661"/>
      </c:barChart>
      <c:catAx>
        <c:axId val="628073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661"/>
        <c:crosses val="autoZero"/>
        <c:auto val="1"/>
        <c:lblAlgn val="ctr"/>
        <c:lblOffset val="100"/>
        <c:noMultiLvlLbl val="0"/>
      </c:catAx>
      <c:valAx>
        <c:axId val="176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073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D56C-0427-4841-ADA3-47C2E414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4D5C-49A6-411B-A02F-A8185265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6C3-8654-4972-B330-2EA0FCFE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0C1-2DA8-48E8-975E-16153C16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ECE-779A-4232-BC89-38C5B5F1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86B1-A6E0-4D9F-8FD8-8C1F9619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01A5-4C98-4B4D-AD54-A3E40A00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308-31D6-4613-889D-8671EE5B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B20-81DD-49A7-9DDA-DF99A7A6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3BC-DB28-4D55-B199-97C21A96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A7B-27EE-4F6D-8B27-D53AD4A7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21F-B93B-4F6A-ABBA-83225797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CFEE74-1CB4-4E82-B28B-BAE1088A5D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