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67939"/>
        <c:axId val="88847904"/>
      </c:barChart>
      <c:catAx>
        <c:axId val="36567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47904"/>
        <c:crosses val="autoZero"/>
        <c:auto val="1"/>
        <c:lblAlgn val="ctr"/>
        <c:lblOffset val="100"/>
        <c:noMultiLvlLbl val="0"/>
      </c:catAx>
      <c:valAx>
        <c:axId val="88847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7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1B6-BC14-4FC1-AA76-6E343C7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076-1F21-4425-8D9C-EFEFE98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765-85BC-4AE2-87D2-CC1FE92B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069-CA17-426B-AC44-CF87558D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2E0-7037-4AFC-9395-914F8B3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80A-2FB1-428C-A80A-F47F22E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D45-5E0F-436B-8023-FCB5DDF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C63-90B4-4F87-A4B0-64533FD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6B0-F5A2-490A-B878-C11320E8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5BF-CDBC-4DC1-A019-7701289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74F-F5E3-42F6-8F3B-5DA4F3EC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697-3183-4ED4-B3B6-4523DFC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CE9E9-AA27-4075-A387-904F430E4E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