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00122"/>
        <c:axId val="51565915"/>
      </c:barChart>
      <c:catAx>
        <c:axId val="24600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5915"/>
        <c:crosses val="autoZero"/>
        <c:auto val="1"/>
        <c:lblAlgn val="ctr"/>
        <c:lblOffset val="100"/>
        <c:noMultiLvlLbl val="0"/>
      </c:catAx>
      <c:valAx>
        <c:axId val="51565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0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989-8995-45F6-8207-078ABA01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4E0-768E-4C41-9324-6FE999A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967-915C-4D30-A30B-8A02A06C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AC6-054D-42C9-A9FA-ADC3C790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8A4-9336-4704-AA3A-7C3150A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00F-2889-4AF6-B3C1-4E86B5F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D45-CCDB-4D5C-B390-62B9935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61F-D152-4483-BCD0-E2EFAC9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3FB-7233-4BCE-B1BB-F2A0721B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81F-2641-40F2-99D0-A1DA9AF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A7D-D398-4D6C-A9F8-2157282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9ED-B7B2-47F6-B451-8666535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1DA5-2B9D-491B-BDA9-C36F0D97F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