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78238"/>
        <c:axId val="28878962"/>
      </c:barChart>
      <c:catAx>
        <c:axId val="233782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78962"/>
        <c:crosses val="autoZero"/>
        <c:auto val="1"/>
        <c:lblAlgn val="ctr"/>
        <c:lblOffset val="100"/>
        <c:noMultiLvlLbl val="0"/>
      </c:catAx>
      <c:valAx>
        <c:axId val="28878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782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998F-5B1C-4687-A1CA-AEEBCFBF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CAC6-9AF4-4C99-95D6-74902D15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A49-44C6-4008-8D96-AB9443F3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519-8703-4B7A-B797-BF2A0381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AC7-108D-4E9D-A737-295639BE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44E-1335-49AF-8B45-A3EFC199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D90B-1B0B-450D-B7E0-7148A831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54E-1224-43B1-93FF-87AAFB68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9D6-BCA0-421D-9446-10B2FDB1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8F01-8AC0-4EDB-A04B-437B10B4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CF7-7C5C-4AC4-A897-17D3F3D9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223C-3190-48E0-B0BC-39243FAA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76AA5-D4A7-4668-B35F-423E94C960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