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30617"/>
        <c:axId val="12677180"/>
      </c:barChart>
      <c:catAx>
        <c:axId val="10330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77180"/>
        <c:crosses val="autoZero"/>
        <c:auto val="1"/>
        <c:lblAlgn val="ctr"/>
        <c:lblOffset val="100"/>
        <c:noMultiLvlLbl val="0"/>
      </c:catAx>
      <c:valAx>
        <c:axId val="12677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30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447-C4A0-4B75-A6DA-15211A08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1B6-8CC8-47B5-B51B-D2929C4D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E67-7880-4C6B-9A6F-0B4205EE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6ED-CC54-479F-BAF9-36E6DA23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AAC-093C-4B80-ACD2-F7418D4A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AF5-2D80-419F-934E-950EBE0C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D5CE-2C95-4515-8060-0E2C4268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335-33DB-460F-B5E5-4B7F2729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E6B-93B9-47B4-8D76-A11E7ACE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0FD-7111-4D44-80CF-3823706F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AD2-1457-4604-ADD9-86CECA5B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FBA-63A6-49BB-BA40-189D47A7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86EDB-8A76-4BB6-9832-DF18AD44B5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