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07335"/>
        <c:axId val="47843642"/>
      </c:barChart>
      <c:catAx>
        <c:axId val="75407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43642"/>
        <c:crosses val="autoZero"/>
        <c:auto val="1"/>
        <c:lblAlgn val="ctr"/>
        <c:lblOffset val="100"/>
        <c:noMultiLvlLbl val="0"/>
      </c:catAx>
      <c:valAx>
        <c:axId val="47843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07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083-887A-4498-959C-EBE050E3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D5E-9C0E-4684-AF70-D5987E5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2D0-84D1-4C64-86A0-407A20F1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B57-AE0D-4755-82A0-1FDABE78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56A-5E94-4BB7-A972-372D0C3C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72D-9A39-49C9-8592-5F5C689A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981-3BE4-4DE3-AB7F-5217891F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15B-E271-4F8E-9173-3BC3008C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5BC-F523-48BB-89EF-A0BCE03F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D0E-7F7F-4628-A3C4-071C145F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BFD-DA18-4BAE-BFAD-FEB19103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D64-A421-4F30-8B9A-5CCB4819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17131-4F98-4905-BA95-76D95731A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