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7595038"/>
        <c:axId val="20650574"/>
      </c:barChart>
      <c:catAx>
        <c:axId val="575950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650574"/>
        <c:crosses val="autoZero"/>
        <c:auto val="1"/>
        <c:lblAlgn val="ctr"/>
        <c:lblOffset val="100"/>
        <c:noMultiLvlLbl val="0"/>
      </c:catAx>
      <c:valAx>
        <c:axId val="2065057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75950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8A221-5C57-4314-BCAF-7A540C11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E2850-1CA5-4281-9BA2-5FD6CD969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EED37-04E6-4698-B95D-8FFA1DF5B2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E7423-50CC-46E4-89C8-5F1CD95894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350D-AB1F-4BEC-B8FC-0B723A1C7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3AF63-00F3-46B1-9475-86FC4CC48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C59A0-33C0-4388-BA0F-6E7D0982D6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A0953-EF28-45D6-9F06-5223507AE2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FA6E3-1D04-4FCC-A481-0A4F0DD7E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895BE-F303-4554-B5A5-0C470AB3B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6673-A147-4CEA-91D1-9309F851E9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F484F-CA8F-47E4-9F44-A3356B75C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339714-8298-45FE-8522-C403CF649EC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