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95512"/>
        <c:axId val="61653854"/>
      </c:barChart>
      <c:catAx>
        <c:axId val="94995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53854"/>
        <c:crosses val="autoZero"/>
        <c:auto val="1"/>
        <c:lblAlgn val="ctr"/>
        <c:lblOffset val="100"/>
        <c:noMultiLvlLbl val="0"/>
      </c:catAx>
      <c:valAx>
        <c:axId val="61653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95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5B3-A2BA-4177-8413-5EFF9A65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278-EAEA-4339-9761-3F1DAC57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215-CB38-439A-A5C3-21B74160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ECC-1513-4604-8860-F612AD24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1D7-8074-430F-BBD9-44ACD85B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714-C10D-445C-9CFE-F980C69A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4B9-BEB9-4469-A0CB-B3C5FEB7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B0F-C88F-4F2B-89D2-578BE66A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DCF-E741-4E8D-B748-836C2797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0CAB-8548-4DFB-8FC7-E0064B3B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92A-0EC3-4B50-A0C5-18525E6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E74-AAF6-4650-82D4-EA3F282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C7BAC-1D97-418E-AD75-E79F6159C5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