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85230"/>
        <c:axId val="65515558"/>
      </c:barChart>
      <c:catAx>
        <c:axId val="12385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15558"/>
        <c:crosses val="autoZero"/>
        <c:auto val="1"/>
        <c:lblAlgn val="ctr"/>
        <c:lblOffset val="100"/>
        <c:noMultiLvlLbl val="0"/>
      </c:catAx>
      <c:valAx>
        <c:axId val="65515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5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AC7-31DC-4EF7-A48C-91EAB026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20B-403B-44E2-8000-8A0DE32B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2EE-DA3A-4672-AE89-3380AC48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9EC-34ED-40E8-BE35-2E1AE76D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F08-B17F-4C88-A26D-C757F936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CD7-C170-479D-9EC8-83D1E27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E76-F347-402A-B929-FE7C6CF5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B94-D282-4621-B658-68CAF777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BE5-62E6-49FE-9A9A-129E6FBE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66F-B6CA-4F13-8A96-1B52575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258-C0B6-4385-9D69-6DB59B0A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F52-DD7D-4531-8307-29BCE63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15357-A862-4B63-B0FC-84EF259BD5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